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11A5-2A7B-4799-B754-63D76CD716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0A22-C4AA-44CA-A202-310915CEC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6F0-9DD9-4919-B755-76CF93104E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437-EDE5-40C9-98B4-B92EB27E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B19-E5EC-483B-A82B-5D28523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45AC7-59AB-46C1-B008-B5AC4F0F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5D82D-6A91-4A74-B31D-2DCF8A7D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1B277-3181-4F20-B5E6-C8DF45DC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BDA4D-ECF9-492B-BA63-24B666D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1461B-0E98-41AC-9364-75AED76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B9601-3EF1-405E-BE6F-AE8733C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6A1DC-973F-4D4C-89A2-7FAE67B9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7BDDB-CBAF-470D-9B11-C80F6CD4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B56CD-EBC6-4A16-A025-E2DCA301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2D0E2-E411-48B8-A9AB-5D842264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98B-2D50-4D49-8B07-92CAE9C4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AABCA-FE04-4C9C-81EE-83F665FA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2F2F5-C02E-46BF-8BCC-F60257FF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179A9-6CAC-4076-A600-B9B4483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9040-79C1-4EDB-AF13-C3A45B7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19A89-667A-49C5-8AA0-C19017C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DFF69-B429-4DD3-9422-9C77A6A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EF85E-4C39-42FF-8F69-DA7B86A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4864E-BCF3-448F-A886-1BC3F76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96611-A7A3-4765-9445-03382B5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6536C-138F-4BB8-AFC0-4B290DBE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EC6-3BC5-4001-A740-9C3B5CAD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0C110-4ADB-48B9-90A8-E2C91987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6FE2-4015-4792-9AD8-47CB1F79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859A0-754C-41F9-BBEE-0A5A61A7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692E2-958C-4D76-B4EF-C00FDAAB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24E61-77B2-4BB9-A000-E3C5E1E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200F9-FEF5-448D-9C64-E1729397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91762-2B08-4AF8-A06C-DCD72601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BA8B-F34F-43C5-AED5-B02C9F1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F50-2C70-40CE-8F7E-1477342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A254A-58AC-4CD5-9F3C-357699A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2D87-B785-4C40-9755-6CE4AAE2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BF184-8840-46A9-9E16-560EC0AF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B05A-DABA-41E1-9A84-F8D6364A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1344B-65A0-419C-8903-93AA1216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238F8-599D-49D8-A0F6-97504C10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65610-D2D3-4738-9763-7207B617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E0155-C7DD-4314-9693-0995F29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3AC3D-B833-482B-91B3-1A8DC8F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6EFB4-1F02-4BB7-886E-6F48DAAE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FC8-971A-4068-9E70-E979CB3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03DF8-6B57-49FE-99E6-2CE7E5E9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7993-7B02-4619-84B5-A5AB276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E4F36-EE4B-4574-9066-94AA5A3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82C8A-3458-4118-A3DE-78E94F88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9D9F3-03EF-43B4-B67C-3E05034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064B4-F529-42D2-BABA-7465E076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AEA23-0B15-4752-AE34-05176E7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9AC4-9DCC-4203-B45B-F139EFC0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F755-A4E0-4705-852A-9912DA32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B76F-DECB-4460-B03F-A0752FC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8E7-E95B-45FE-B166-AF3B941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3703-7C91-483B-91FA-79726FB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AC4C-6548-41D1-BFE8-F941F7A7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034D-7EB9-42FC-B097-9B4AC4F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172B-8E49-42DD-8704-0893B92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33D3-20D6-4511-BD59-A7640112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4ACA-FB4D-48BD-A0B9-4C263E0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1360-0A53-44A1-BED5-D814015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BE3F-ADE5-4527-AD1B-608CBA03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79C7-9C0F-4B86-9AE9-3A66D707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C587-94DE-40FE-B692-400F8DD9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C13-21C9-4B57-BD81-7CF0971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F9CA-899B-49A8-9DF1-A10E7FA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73F5-4786-499B-B36B-24908F2B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64C4-D131-474E-B383-47B3FAC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6F3C5-2639-453C-BDE0-5F0C522A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3E18-5CF3-4603-9032-6C83BA56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650C-5740-4215-AB63-4DB4222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9ABD-6226-4905-AA50-96AD6ED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D2D6F-275E-490E-BF47-80798F40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E1ED-56E6-4216-8B9E-D86091E6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A23E5-9A27-4D7B-A23F-F23247D2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344-9D8A-4220-8AF4-3568284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3CAD-63CC-4A43-BB17-CCB27AEE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AAB6-6982-4CEC-8F3B-4103D814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BBDB-0F8F-4497-9D2A-3C6E1120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95A7-40E5-4146-AD74-03053BB7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C756B-2698-405E-8C71-CC6BF71C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8285-DE66-45B1-A307-AF8BB24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4664-B708-4E76-8CE6-4D55EB5D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FDEC0-EABB-499A-A68F-79DE740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E628-A6EC-4814-8362-DECB9BB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6F2E-0B2E-457E-A367-2A3A308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1D6-B631-4B27-9ED8-A90CCFC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1EA5-7E3C-49FA-92EC-F8C1F7F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B5447-8CB9-4C7A-A967-48BE151F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8E7D-8D68-41D7-903D-09454DC9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F59D-AA4F-44B1-923E-EDF9B93B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2B30-7CB6-4419-8073-BE3263F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E1C4-F2A6-476E-B3F2-546A2A8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11AA2-486E-4196-8BA7-02C1CA59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3AFBE-B24C-4DD7-A726-BF9A747E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3ADB0-4497-4A09-AFB2-87E33A97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F83C-B46E-4A8E-B0C5-8A99983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EF5-13DB-4953-A85B-2940FEA9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168D1-B5E8-40E6-A59E-30486FC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A0AF-0182-4C90-8C60-D0B7BE66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39D4-9DC9-4632-948F-3BCC4712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54B3-9D15-47C3-B94A-830E35CE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4EAA-8D0A-4480-A6B5-70A17F76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B3EC0-32B0-4E6C-8BD1-ACFFD688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D9D73-3B95-4778-8EC5-D94DE2A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DDDA-315F-457D-9AC0-CA2B2F19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61CBE-B9B2-4EE2-8360-E6EAF3F8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F25DB-8611-4B55-84DD-4652E8C8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974-7DD5-4199-A665-504B5B2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1777-ACA7-4CC6-9108-FE7CF9A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DE493-5CF9-4D13-AA46-FA0BF1E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631F-759E-492E-9DC8-903F4306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E1C54-16C1-46A9-A97C-7AAF206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C6125-F35D-446A-AB6B-2EA2758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BAF91-F7C1-4F7F-B778-D115B0F6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4859-B3BD-48A3-9ABA-14B80E80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CA37-1329-44EA-B805-C830078D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0C19B-7C39-410F-971E-68257954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FC404-8FC0-4E66-8A52-1D81D3F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9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26.png"/><Relationship Id="rId18" Type="http://schemas.openxmlformats.org/officeDocument/2006/relationships/image" Target="../media/image1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E8E-B3DD-4727-8261-24DE8D99164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Straight Connector 31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6ED-0913-46AE-8FCA-0CF9BCC14106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5640"/>
              <a:ext cx="2043000" cy="164520"/>
              <a:chOff x="14400" y="2285640"/>
              <a:chExt cx="2043000" cy="16452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5640"/>
                <a:ext cx="20430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3800" y="231912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5520"/>
              <a:ext cx="2043000" cy="159480"/>
              <a:chOff x="14400" y="2225520"/>
              <a:chExt cx="2043000" cy="1594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552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3800" y="225648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0720"/>
              <a:ext cx="2043000" cy="164520"/>
              <a:chOff x="14400" y="2160720"/>
              <a:chExt cx="2043000" cy="16452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0720"/>
                <a:ext cx="20430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3800" y="219420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100960"/>
              <a:ext cx="2043000" cy="159480"/>
              <a:chOff x="14400" y="2100960"/>
              <a:chExt cx="2043000" cy="1594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10096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3800" y="213192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36160"/>
              <a:ext cx="2043000" cy="164520"/>
              <a:chOff x="14400" y="2036160"/>
              <a:chExt cx="2043000" cy="16452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36160"/>
                <a:ext cx="20430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3800" y="206964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59480"/>
              <a:chOff x="14400" y="1976400"/>
              <a:chExt cx="2043000" cy="1594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3800" y="200736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50440"/>
              <a:ext cx="2043000" cy="159480"/>
              <a:chOff x="14400" y="2350440"/>
              <a:chExt cx="2043000" cy="1594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5044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3800" y="238140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85280"/>
              <a:ext cx="552600" cy="164160"/>
              <a:chOff x="8583480" y="2285280"/>
              <a:chExt cx="552600" cy="16416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85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388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38"/>
            <p:cNvGrpSpPr/>
            <p:nvPr/>
          </p:nvGrpSpPr>
          <p:grpSpPr>
            <a:xfrm>
              <a:off x="8583480" y="2225520"/>
              <a:ext cx="552600" cy="159480"/>
              <a:chOff x="8583480" y="2225520"/>
              <a:chExt cx="552600" cy="159480"/>
            </a:xfrm>
          </p:grpSpPr>
          <p:pic>
            <p:nvPicPr>
              <p:cNvPr id="115" name="Rectangle 3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388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0720"/>
              <a:ext cx="552600" cy="164160"/>
              <a:chOff x="8583480" y="2160720"/>
              <a:chExt cx="552600" cy="16416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0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388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59480"/>
              <a:chOff x="8583480" y="2100960"/>
              <a:chExt cx="552600" cy="15948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388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Rectangle 41"/>
            <p:cNvGrpSpPr/>
            <p:nvPr/>
          </p:nvGrpSpPr>
          <p:grpSpPr>
            <a:xfrm>
              <a:off x="8583480" y="2036160"/>
              <a:ext cx="552600" cy="164160"/>
              <a:chOff x="8583480" y="2036160"/>
              <a:chExt cx="552600" cy="164160"/>
            </a:xfrm>
          </p:grpSpPr>
          <p:pic>
            <p:nvPicPr>
              <p:cNvPr id="124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36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3880" y="2069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59480"/>
              <a:chOff x="8583480" y="1976400"/>
              <a:chExt cx="552600" cy="15948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388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388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47120" y="6016680"/>
            <a:ext cx="195120" cy="195120"/>
            <a:chOff x="8547120" y="6016680"/>
            <a:chExt cx="195120" cy="19512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01668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47120" y="5450040"/>
            <a:ext cx="195120" cy="195120"/>
            <a:chOff x="8547120" y="5450040"/>
            <a:chExt cx="195120" cy="1951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47120" y="545004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47120" y="5730840"/>
            <a:ext cx="195120" cy="193680"/>
            <a:chOff x="8547120" y="5730840"/>
            <a:chExt cx="195120" cy="19368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47120" y="5730840"/>
              <a:ext cx="1951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CEC8-8FED-4759-959E-3207164472A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698-A2D6-447C-B721-242E9545BC2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EB54-C5EF-4CCC-B2C6-A1EE3D819BA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04D3-88D8-4757-8E96-F2193651F2D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511A-C906-47E4-9A01-5FF1B65D487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670040"/>
            <a:ext cx="8334720" cy="184140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670040"/>
            <a:ext cx="8334720" cy="1963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F68-3FF9-40D7-B58A-17EA9BD3488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670040"/>
            <a:ext cx="8236080" cy="130500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670040"/>
            <a:ext cx="8236080" cy="19638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A48-EBB1-4301-949C-D20F34F72AA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69552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69552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69552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69552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69552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9AE-0715-4B10-AF20-E6DD734B2A7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0760" y="5999040"/>
            <a:ext cx="272880" cy="273240"/>
            <a:chOff x="8510760" y="5999040"/>
            <a:chExt cx="272880" cy="273240"/>
          </a:xfrm>
        </p:grpSpPr>
        <p:pic>
          <p:nvPicPr>
            <p:cNvPr id="911" name="Oval 28" descr=""/>
            <p:cNvPicPr/>
            <p:nvPr/>
          </p:nvPicPr>
          <p:blipFill>
            <a:blip r:embed="rId2"/>
            <a:stretch/>
          </p:blipFill>
          <p:spPr>
            <a:xfrm>
              <a:off x="8510760" y="5999040"/>
              <a:ext cx="2728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0760" y="6284880"/>
            <a:ext cx="272880" cy="274680"/>
            <a:chOff x="8510760" y="6284880"/>
            <a:chExt cx="272880" cy="274680"/>
          </a:xfrm>
        </p:grpSpPr>
        <p:pic>
          <p:nvPicPr>
            <p:cNvPr id="914" name="Oval 28" descr=""/>
            <p:cNvPicPr/>
            <p:nvPr/>
          </p:nvPicPr>
          <p:blipFill>
            <a:blip r:embed="rId3"/>
            <a:stretch/>
          </p:blipFill>
          <p:spPr>
            <a:xfrm>
              <a:off x="8510760" y="628488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0760" y="5437080"/>
            <a:ext cx="272880" cy="274680"/>
            <a:chOff x="8510760" y="5437080"/>
            <a:chExt cx="272880" cy="274680"/>
          </a:xfrm>
        </p:grpSpPr>
        <p:pic>
          <p:nvPicPr>
            <p:cNvPr id="917" name="Oval 28" descr=""/>
            <p:cNvPicPr/>
            <p:nvPr/>
          </p:nvPicPr>
          <p:blipFill>
            <a:blip r:embed="rId4"/>
            <a:stretch/>
          </p:blipFill>
          <p:spPr>
            <a:xfrm>
              <a:off x="8510760" y="543708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0760" y="5711760"/>
            <a:ext cx="272880" cy="274680"/>
            <a:chOff x="8510760" y="5711760"/>
            <a:chExt cx="272880" cy="274680"/>
          </a:xfrm>
        </p:grpSpPr>
        <p:pic>
          <p:nvPicPr>
            <p:cNvPr id="920" name="Oval 28" descr=""/>
            <p:cNvPicPr/>
            <p:nvPr/>
          </p:nvPicPr>
          <p:blipFill>
            <a:blip r:embed="rId5"/>
            <a:stretch/>
          </p:blipFill>
          <p:spPr>
            <a:xfrm>
              <a:off x="8510760" y="571176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6"/>
          <a:stretch/>
        </p:blipFill>
        <p:spPr>
          <a:xfrm>
            <a:off x="2041560" y="262080"/>
            <a:ext cx="6535800" cy="391932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4" name="Picture 7" descr="am flag.jpg"/>
          <p:cNvPicPr/>
          <p:nvPr/>
        </p:nvPicPr>
        <p:blipFill>
          <a:blip r:embed="rId7"/>
          <a:stretch/>
        </p:blipFill>
        <p:spPr>
          <a:xfrm>
            <a:off x="2743200" y="3657600"/>
            <a:ext cx="3657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two major debates involved in forming the Constitution were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at the name of the document would b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How many representatives each state would get in 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ow many states were included in the U.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o would be th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State vs. Federal Pow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ecks and balances” refers to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xes imposed by the Federal Govern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difference between the Bill of Rights and the rest of the Constit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way that each branch of government can regulate the oth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tale about an old, rich man who always fell ov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overnment’s ability to give mone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ecks and balances” refers to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xes imposed by the Federal Govern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difference between the Bill of Rights and the rest of the Constit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The way that each branch of government can regulate the oth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 tale about an old, rich man who always fell ov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overnment’s ability to give mone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What are the two houses (groups) of the Legislative Branch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77" name="Text Placeholder 2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8236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Judicial Branch makes law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many amendments are in the Bill of Right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0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  <p:sp>
        <p:nvSpPr>
          <p:cNvPr id="981" name="TextBox 4"/>
          <p:cNvSpPr/>
          <p:nvPr/>
        </p:nvSpPr>
        <p:spPr>
          <a:xfrm>
            <a:off x="1371600" y="32767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: How many amendments are there in to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Box 6"/>
          <p:cNvSpPr/>
          <p:nvPr/>
        </p:nvSpPr>
        <p:spPr>
          <a:xfrm>
            <a:off x="3962520" y="44956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itle 1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  <p:sp>
        <p:nvSpPr>
          <p:cNvPr id="984" name="TextBox 2"/>
          <p:cNvSpPr/>
          <p:nvPr/>
        </p:nvSpPr>
        <p:spPr>
          <a:xfrm>
            <a:off x="1295280" y="32767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e term “Double Jeopardy”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 the game show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Box 3"/>
          <p:cNvSpPr/>
          <p:nvPr/>
        </p:nvSpPr>
        <p:spPr>
          <a:xfrm>
            <a:off x="1676520" y="45720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person may be put on trial twice for the same crime, unless new evidence is discov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has the power to declare wa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r. Moff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ate Govern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has the power to declare wa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r. Moff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ate Govern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many years is each Presidential term in offic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99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three branches of govern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fession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old must a person be to run for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old must a person be to run for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listens to cases of Impeachment of the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Cabinet Memb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s. Brow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upreme Cour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Vic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en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listens to cases of Impeachment of the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Cabinet Memb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s. Brow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upreme Cour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Vic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The Sen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ogether, the House of Representatives and the Senate are referred to as wha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5" name="Text Placeholder 2" descr=""/>
          <p:cNvPicPr/>
          <p:nvPr/>
        </p:nvPicPr>
        <p:blipFill>
          <a:blip r:embed="rId2"/>
          <a:stretch/>
        </p:blipFill>
        <p:spPr>
          <a:xfrm>
            <a:off x="225360" y="25844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Does the Federal or State government regulate marriage law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7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Does the Federal or State government regulate immigration law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9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State Governments can print and coin mone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Who takes over if the President dies or becomes physically unable to perform his du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2" name="Text Placeholder 2" descr=""/>
          <p:cNvPicPr/>
          <p:nvPr/>
        </p:nvPicPr>
        <p:blipFill>
          <a:blip r:embed="rId2"/>
          <a:stretch/>
        </p:blipFill>
        <p:spPr>
          <a:xfrm>
            <a:off x="225360" y="2054160"/>
            <a:ext cx="8236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ccording to the Bill of Rights, which of these may I NOT do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be a witness in a trial about 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Violently protest a law I don’t lik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allow a police officer to search my ho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ll my Congressman I don’t like hi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ry a weap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three branches of govern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Judici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fession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Execu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Legisla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ccording to the Bill of Rights, which of these may I NOT do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be a witness in a trial about 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Violently protest a law I don’t lik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allow a police officer to search my ho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ll my Congressman I don’t like hi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ry a weap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House of Representatives is bigger than the Senat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6" name="TextBox 2"/>
          <p:cNvSpPr/>
          <p:nvPr/>
        </p:nvSpPr>
        <p:spPr>
          <a:xfrm>
            <a:off x="1295280" y="3581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: How many people are in the House of Representat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4"/>
          <p:cNvSpPr/>
          <p:nvPr/>
        </p:nvSpPr>
        <p:spPr>
          <a:xfrm>
            <a:off x="3505320" y="45720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Arial"/>
              </a:rPr>
              <a:t>43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President can veto laws passed by Congres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286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can Congress pass a law after it is vetoed by the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0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3"/>
          <p:cNvSpPr/>
          <p:nvPr/>
        </p:nvSpPr>
        <p:spPr>
          <a:xfrm>
            <a:off x="1981080" y="45720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ust vote on the law again and atleast 2/3 of the Congress must vote to pas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Does the Federal or State Government have the power to negotiate trea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3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branch of the Federal Government has the power to negotiate those trea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per Fun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litary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branch of the Federal Government has the power to negotiate those trea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per Fun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litary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All people accused of criminal action are allowed the right to a speedy and public trial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is the highest leader of the militar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ster Chief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ptai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eneral Superio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is the highest leader of the militar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ster Chief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ptai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eneral Superio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of these is not granted in the First Amend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to Assembl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to Carry Weap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the P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Relig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Spee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Only the Federal Government may levy and collect taxe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Wager as many points as you’d like, because it’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81" name="Text Placeholder 2" descr=""/>
          <p:cNvPicPr/>
          <p:nvPr/>
        </p:nvPicPr>
        <p:blipFill>
          <a:blip r:embed="rId2"/>
          <a:stretch/>
        </p:blipFill>
        <p:spPr>
          <a:xfrm>
            <a:off x="225360" y="243216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long is each term for a member of the Senate and a member of the House of Representativ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3" name="TextBox 2"/>
          <p:cNvSpPr/>
          <p:nvPr/>
        </p:nvSpPr>
        <p:spPr>
          <a:xfrm>
            <a:off x="2209680" y="3809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ate – 6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 of Reps. – 2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of these is not granted in the First Amend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to Assembl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Freedom to Carry Weap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the P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Relig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Spee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Each state gets two Senator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President appoints Supreme Court justic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35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Any powers not specifically given to the Federal Government in the Constitution are assumed to be reserved for the Federal Government anywa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two major debates involved in forming the Constitution were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at the name of the document would b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ow many representatives each state would get in 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ow many states were included in the U.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o would be th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ate vs. Federal Pow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3:59:11Z</dcterms:created>
  <dc:creator>Moffa, David</dc:creator>
  <dc:description/>
  <cp:keywords/>
  <dc:language>en-US</dc:language>
  <cp:lastModifiedBy/>
  <dcterms:modified xsi:type="dcterms:W3CDTF">2010-12-10T17:52:34Z</dcterms:modified>
  <cp:revision>1</cp:revision>
  <dc:subject/>
  <dc:title/>
</cp:coreProperties>
</file>